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14CA-0DCE-4C7B-B959-756211D6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A3FB-6E31-4DF9-8E5B-C1A62D60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7961-B936-4EC1-AB63-7107C2DB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362F-D06D-4AF8-9BDE-76E64F40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033A-E602-4D6C-A8BC-B361CEBE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0DFC-3B05-405A-8A41-D844BB0C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66F8-7CF5-48D7-87FE-FA6306FE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E4C9-E324-4722-BDCE-B45C8D3E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14CE-CEED-4205-9AD4-7369665B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D088-4B02-4B9E-AE4E-B4B1FC5E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DB85-7922-4EF5-9E1E-0CBDF9DF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6A97-6F08-41E0-B96D-44378879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50D5-86EF-456A-931F-14242951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A7BE-2D8E-4086-B966-FFD91B8A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AE8B-AF60-4FBE-BD18-6DDFDA54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3B2B-FDF1-4BA3-A4CA-0083CFDA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3D79-0670-4187-BF94-E30CF00E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A741-3D80-47F3-B5C5-FF73FE6C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D590-F7B0-4192-81C4-389C3135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A8F7-E547-40AB-9C89-080E1198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3579-6F65-438A-8777-797A4B24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3854-A3A5-4A50-88E9-0ECC65A5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9260-7292-4EDC-ABC4-190E06E5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BA91-6620-4D54-90AD-62EB80D2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423A-85FA-45F6-B21C-14A7C92897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00D3-AA3A-4EBD-8B8B-9063DB4536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51000"/>
            <a:ext cx="7772400" cy="16300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assic Art Samples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(4</a:t>
            </a:r>
            <a:r>
              <a:rPr b="0" lang="en-US" sz="4400" spc="-1" strike="noStrike" baseline="30000">
                <a:solidFill>
                  <a:srgbClr val="000066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 Grade Curriculum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6" name="ChristensenRhino" descr=""/>
          <p:cNvPicPr/>
          <p:nvPr/>
        </p:nvPicPr>
        <p:blipFill>
          <a:blip r:embed="rId1"/>
          <a:stretch/>
        </p:blipFill>
        <p:spPr>
          <a:xfrm>
            <a:off x="3352680" y="2438280"/>
            <a:ext cx="2598840" cy="3276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9442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George Otting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548640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ther Art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OttingerImmigrant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01000" cy="3983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438280" y="571500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migrant T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62485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351000"/>
            <a:ext cx="7467480" cy="7920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Vincent Van Gogh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49528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ther Art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VanGoghBedroom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400800" cy="48736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752480" y="60199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Bedroom at Ar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38088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351000"/>
            <a:ext cx="2438280" cy="16300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Jan Verme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49528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ther Art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VermeerLetter" descr=""/>
          <p:cNvPicPr/>
          <p:nvPr/>
        </p:nvPicPr>
        <p:blipFill>
          <a:blip r:embed="rId1"/>
          <a:stretch/>
        </p:blipFill>
        <p:spPr>
          <a:xfrm>
            <a:off x="3859200" y="228600"/>
            <a:ext cx="5284800" cy="64008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514600" y="320040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L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ajor Period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iss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ro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man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et’s Learn About Artists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2362320"/>
            <a:ext cx="89154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By searching their nam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By searching for certain styles or perio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8001000" y="4876920"/>
            <a:ext cx="533520" cy="533160"/>
          </a:xfrm>
          <a:custGeom>
            <a:avLst/>
            <a:gdLst>
              <a:gd name="textAreaLeft" fmla="*/ 53640 w 533520"/>
              <a:gd name="textAreaRight" fmla="*/ 479880 w 533520"/>
              <a:gd name="textAreaTop" fmla="*/ 53640 h 533160"/>
              <a:gd name="textAreaBottom" fmla="*/ 47952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19429" y="2186"/>
                </a:lnTo>
                <a:lnTo>
                  <a:pt x="2186" y="2186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19429" y="19414"/>
                </a:lnTo>
                <a:lnTo>
                  <a:pt x="19429" y="2186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2186" y="19414"/>
                </a:lnTo>
                <a:lnTo>
                  <a:pt x="19429" y="19414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2186" y="2186"/>
                </a:lnTo>
                <a:lnTo>
                  <a:pt x="2186" y="19414"/>
                </a:lnTo>
                <a:close/>
              </a:path>
              <a:path fill="darken" w="21615" h="21600">
                <a:moveTo>
                  <a:pt x="4387" y="4379"/>
                </a:moveTo>
                <a:lnTo>
                  <a:pt x="17228" y="10800"/>
                </a:lnTo>
                <a:lnTo>
                  <a:pt x="4387" y="17221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24382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ome Famous Artis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orge Bell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Cezan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mes Christen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uise Farnswo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en Frankentha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äthe Kollwit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orge Otti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ncent Van Go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n Verme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685800" y="1981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685800" y="2514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>
            <a:hlinkClick r:id="rId3" action="ppaction://hlinksldjump"/>
          </p:cNvPr>
          <p:cNvSpPr/>
          <p:nvPr/>
        </p:nvSpPr>
        <p:spPr>
          <a:xfrm>
            <a:off x="685800" y="30481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3794"/>
                </a:moveTo>
                <a:lnTo>
                  <a:pt x="17819" y="10800"/>
                </a:lnTo>
                <a:lnTo>
                  <a:pt x="3806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>
            <a:hlinkClick r:id="rId4" action="ppaction://hlinksldjump"/>
          </p:cNvPr>
          <p:cNvSpPr/>
          <p:nvPr/>
        </p:nvSpPr>
        <p:spPr>
          <a:xfrm>
            <a:off x="685800" y="3505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3794"/>
                </a:moveTo>
                <a:lnTo>
                  <a:pt x="17819" y="10800"/>
                </a:lnTo>
                <a:lnTo>
                  <a:pt x="3806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>
            <a:hlinkClick r:id="rId5" action="ppaction://hlinksldjump"/>
          </p:cNvPr>
          <p:cNvSpPr/>
          <p:nvPr/>
        </p:nvSpPr>
        <p:spPr>
          <a:xfrm>
            <a:off x="685800" y="4038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6" action="ppaction://hlinksldjump"/>
          </p:cNvPr>
          <p:cNvSpPr/>
          <p:nvPr/>
        </p:nvSpPr>
        <p:spPr>
          <a:xfrm>
            <a:off x="685800" y="4572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>
            <a:hlinkClick r:id="rId7" action="ppaction://hlinksldjump"/>
          </p:cNvPr>
          <p:cNvSpPr/>
          <p:nvPr/>
        </p:nvSpPr>
        <p:spPr>
          <a:xfrm>
            <a:off x="685800" y="5029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6481"/>
                </a:moveTo>
                <a:lnTo>
                  <a:pt x="17806" y="13487"/>
                </a:lnTo>
                <a:lnTo>
                  <a:pt x="3794" y="20494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>
            <a:hlinkClick r:id="rId8" action="ppaction://hlinksldjump"/>
          </p:cNvPr>
          <p:cNvSpPr/>
          <p:nvPr/>
        </p:nvSpPr>
        <p:spPr>
          <a:xfrm>
            <a:off x="685800" y="56386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447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3794"/>
                </a:moveTo>
                <a:lnTo>
                  <a:pt x="17819" y="10800"/>
                </a:lnTo>
                <a:lnTo>
                  <a:pt x="3806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BellowsDempsey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7517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George Bellow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563868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lbertus Extra Bold"/>
              </a:rPr>
              <a:t>Dempsey and Fir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9528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ther Art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5867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CezanneAppsorgs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172200" cy="48736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5790960" cy="7920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aul Cezan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60199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es and Or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9528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ther Art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457200" y="57913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3487"/>
                </a:moveTo>
                <a:lnTo>
                  <a:pt x="17806" y="6481"/>
                </a:lnTo>
                <a:lnTo>
                  <a:pt x="17806" y="20494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3048120" cy="13716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James Christense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3" name="ChristensenRhino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4956120" cy="6248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143000" y="3581280"/>
            <a:ext cx="26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lbertus Extra Bold"/>
              </a:rPr>
              <a:t>Rhinocer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9528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ther Art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380880" y="6019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ouise Farnsworth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8" name="FarnsworthCapitol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730920" cy="4510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676520" y="6019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apitol from North Salt La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9528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ther Art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59436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3487"/>
                </a:moveTo>
                <a:lnTo>
                  <a:pt x="17806" y="6481"/>
                </a:lnTo>
                <a:lnTo>
                  <a:pt x="17806" y="20494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351000"/>
            <a:ext cx="4267080" cy="16300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elen 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Frankenthal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9528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ther Art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FrankenthalerBlueAtmos" descr=""/>
          <p:cNvPicPr/>
          <p:nvPr/>
        </p:nvPicPr>
        <p:blipFill>
          <a:blip r:embed="rId1"/>
          <a:stretch/>
        </p:blipFill>
        <p:spPr>
          <a:xfrm>
            <a:off x="5089680" y="304920"/>
            <a:ext cx="3795480" cy="63244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219320" y="32767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Blue Atmosp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5867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4495680" cy="11430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Käthe Kollwitz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9528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ther Art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KollwitzMother" descr=""/>
          <p:cNvPicPr/>
          <p:nvPr/>
        </p:nvPicPr>
        <p:blipFill>
          <a:blip r:embed="rId1"/>
          <a:stretch/>
        </p:blipFill>
        <p:spPr>
          <a:xfrm>
            <a:off x="4572000" y="228600"/>
            <a:ext cx="4338720" cy="64008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38280" y="2514600"/>
            <a:ext cx="1524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other and Ch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6T14:39:53Z</dcterms:created>
  <dc:creator>Inst</dc:creator>
  <dc:description/>
  <dc:language>en-US</dc:language>
  <cp:lastModifiedBy>Inst</cp:lastModifiedBy>
  <dcterms:modified xsi:type="dcterms:W3CDTF">2000-06-16T20:45:47Z</dcterms:modified>
  <cp:revision>7</cp:revision>
  <dc:subject/>
  <dc:title>PowerPoint Presentation</dc:title>
</cp:coreProperties>
</file>